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5044-FEB3-4E8D-A38A-9FBD7B1B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B94E-4AF2-4FBA-A7ED-6409960B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247-DEB4-40CE-96CD-C72466A0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5194-B5B2-4C5D-9C29-34182DAB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77FD-31E0-42CC-9630-C5972FDA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3358-F946-4D0B-BC91-29663B84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830-2E4A-4771-A91B-3F8EE255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5BFE-68D4-4B49-9A9D-10B0198E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17C-FBAD-4451-86DD-CE9CB0FB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FD37-7CCA-48D2-B5E2-44911990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02A-4A5A-450B-9989-0C118DDC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156-8E86-475E-82D0-ADC33837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946B-2D6C-48C5-8D13-B8D3379B426B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KRVO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k krvi po čitavom tij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KRV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nicama donosi kisik i hranjive tvari, a iz stanica odnosi štetne tv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71720" y="587700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krvotok majm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3829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19400" y="5733360"/>
            <a:ext cx="76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omic Sans MS"/>
              </a:rPr>
              <a:t>UOČITE POVEZANOST IZMEĐU VIBRACIJA I OTKUCAJA BILA PR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omic Sans MS"/>
              </a:rPr>
              <a:t>UPUTAMA NA NASTAVNOM LISTIĆ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1720" y="1341360"/>
            <a:ext cx="82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omic Sans MS"/>
              </a:rPr>
              <a:t>PROČITAJTE TEKST U UDŽBENIKU O KRVOTOKU, KRVNIM ŽIL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omic Sans MS"/>
              </a:rPr>
              <a:t>I SR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560" y="2421000"/>
            <a:ext cx="63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omic Sans MS"/>
              </a:rPr>
              <a:t>RIJEŠITE 4. ZADATAK NA 27. STRANI RADNE BILJEŽ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2720" y="3141720"/>
            <a:ext cx="73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omic Sans MS"/>
              </a:rPr>
              <a:t>IMENUJTE VRSTE KRVNIH STANICA I NAVEDITE NJIHOVU ULOG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5480" y="3933720"/>
            <a:ext cx="72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omic Sans MS"/>
              </a:rPr>
              <a:t>RIJEŠITE 5. I 7. ZADATAK NA 27. I 28. STRANI RADNE BILJEŽ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760" y="4653000"/>
            <a:ext cx="73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omic Sans MS"/>
              </a:rPr>
              <a:t>PRISJETITE SE NA TEMELJU PROČITANOG-GDJE SE NALAZI SRC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omic Sans MS"/>
              </a:rPr>
              <a:t>KOJA MU JE ULOG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1320" y="260280"/>
            <a:ext cx="33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LIJEDITE UPUT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5e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5e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5e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5e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5e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heartbeat" descr=""/>
          <p:cNvPicPr/>
          <p:nvPr/>
        </p:nvPicPr>
        <p:blipFill>
          <a:blip r:embed="rId1"/>
          <a:stretch/>
        </p:blipFill>
        <p:spPr>
          <a:xfrm>
            <a:off x="2916360" y="2924280"/>
            <a:ext cx="2390760" cy="2628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100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LJ: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OČITI POVEZANOST IZMEĐU VIBRACIJA I OTKUCAJA BÏ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bor i materijal: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šibica ili čačkalica, plaste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jek rada: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 na mali komad plastelina (što manji, to bolji) ubodi šibicu ili čačkalicu; plastelin zajedno s šibicom ili čačkalicom stavi na unutrašnju stranu zapešća ruke, na mjesto gdje možeš osjetiti otkucaje bï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izbroji koliko će puta, u jednoj minuti, zavibrirati šibica ili čačka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660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jašnjenje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šibica ili čačkalica će se pomicati naprijed-nazad u jednakim razmacima. Kod odrasle osobe u jednoj minuti vibrirat će 60 do 80 puta; kod djece će vibrirati 80 do 140 puta u minuti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STAV KRV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51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KRVNA PLAZM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ekući dio krvi (voda, hranjive tvari i kuhinjska s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KRVNE STANIC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vene – prenose kis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jele – štite organizam od bol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rvne pločice – grušaju krv nakon ozljeđ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3480" y="5805360"/>
            <a:ext cx="23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crvene krvne sta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2400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KRVNE Ž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terije (odvode krv iz sr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ne (dovode krv u s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apilare (najtanje krvne žile, povezuju vene i arterije i dovode krv do stan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06920" y="260280"/>
            <a:ext cx="3444840" cy="5977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V="1">
            <a:off x="7559640" y="2295000"/>
            <a:ext cx="432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91640" y="2295360"/>
            <a:ext cx="115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551640" y="40464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56360" y="404640"/>
            <a:ext cx="7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688000" y="407664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88000" y="4581360"/>
            <a:ext cx="936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30880" y="19162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rter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33320" y="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luć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96800" y="4221000"/>
            <a:ext cx="6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606920" y="5013360"/>
            <a:ext cx="43344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06920" y="6597720"/>
            <a:ext cx="936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80000" y="587700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83280" y="6597720"/>
            <a:ext cx="100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30040" y="623736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v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7920" y="623736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rg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GANI ZA KRVOTOK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GANI ZA KRVOT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50920" y="1557360"/>
            <a:ext cx="483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R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šićni or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mpa krv u krvne ž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2935080" cy="3776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99520" y="558972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ljudsko s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5:13:20Z</dcterms:created>
  <dc:creator>user</dc:creator>
  <dc:description/>
  <dc:language>en-US</dc:language>
  <cp:lastModifiedBy>user</cp:lastModifiedBy>
  <dcterms:modified xsi:type="dcterms:W3CDTF">2009-11-09T15:45:09Z</dcterms:modified>
  <cp:revision>2</cp:revision>
  <dc:subject/>
  <dc:title>Slide 1</dc:title>
</cp:coreProperties>
</file>