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C3E-A8F9-409E-B763-B9882870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D1D-9EA7-44E2-859C-C4E988A1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61B-5F7B-4C40-BD1D-D6D4AD83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B59-B8BC-47D9-BBBA-DFABF944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98E-B6EB-48F8-AFD6-E72DF48B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F62-4B57-44C2-B350-EB1C0A7E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4A9-C01F-452F-8C7B-99E0DF19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ED4-19CE-4324-A6BE-C14A7871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018-D9B1-48B1-90B1-4D508FE6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C3A-7176-4FFE-B8B0-A15EDD3E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4AE-3717-4E5E-8008-473F604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B48-C4F6-4F5F-8A8D-5B97F85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9DBF-CAC9-4D59-B176-408BCE598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182760"/>
            <a:ext cx="4897440" cy="367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4284720" cy="364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22680" y="1700280"/>
            <a:ext cx="297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živa bića izgrađ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su od STA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0280"/>
            <a:ext cx="799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TAN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3840" y="450864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ICA-osnovna jedinica građe svih živih bi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319640" cy="2681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5013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roskopski sitne i različitih obl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početak proučavanja-otkrićem mikroskopa (17. s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6600"/>
                </a:solidFill>
                <a:latin typeface="Comic Sans MS"/>
              </a:rPr>
              <a:t>ŽIVOTINJSKA STAN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336000" cy="5497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20720" y="1484280"/>
            <a:ext cx="17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stanič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93160" y="345456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citopla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79280" y="5398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jez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2349360"/>
            <a:ext cx="18716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96000" y="2349360"/>
            <a:ext cx="936720" cy="4320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3860640"/>
            <a:ext cx="309708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3645000"/>
            <a:ext cx="3097080" cy="2160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5805360"/>
            <a:ext cx="13683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2355120"/>
            <a:ext cx="507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ŽIVOTINJSKA STAN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epravilnog oblika)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ZG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IČNA 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60280"/>
            <a:ext cx="799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TAN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7840" y="105264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ICA-osnovna jedinica građe svih živih bi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557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roskopski sitne i različitih obl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početak proučavanja-otkrićem mikroskopa (17. s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6600"/>
                </a:solidFill>
                <a:latin typeface="Comic Sans MS"/>
              </a:rPr>
              <a:t>BILJNA STAN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353440" cy="5261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64000" y="3933720"/>
            <a:ext cx="2087640" cy="1079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013360"/>
            <a:ext cx="13683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227640" y="1267920"/>
            <a:ext cx="1152720" cy="1008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1268280"/>
            <a:ext cx="15843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700000" y="1125360"/>
            <a:ext cx="647640" cy="115128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10920" y="1125360"/>
            <a:ext cx="208908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84360" y="2997360"/>
            <a:ext cx="251928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3789360"/>
            <a:ext cx="22320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700000" y="5157720"/>
            <a:ext cx="647640" cy="93528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94920" y="6093000"/>
            <a:ext cx="230508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8820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5560" y="549360"/>
            <a:ext cx="163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cc33"/>
                </a:solidFill>
                <a:latin typeface="Comic Sans MS"/>
                <a:ea typeface="Arial"/>
              </a:rPr>
              <a:t>stanič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cc33"/>
                </a:solidFill>
                <a:latin typeface="Comic Sans MS"/>
                <a:ea typeface="Arial"/>
              </a:rPr>
              <a:t>membr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87840" y="3429000"/>
            <a:ext cx="160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cc33"/>
                </a:solidFill>
                <a:latin typeface="Comic Sans MS"/>
                <a:ea typeface="Arial"/>
              </a:rPr>
              <a:t>citoplaz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4880" y="4653000"/>
            <a:ext cx="98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cc33"/>
                </a:solidFill>
                <a:latin typeface="Comic Sans MS"/>
                <a:ea typeface="Arial"/>
              </a:rPr>
              <a:t>jezg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5440" y="433440"/>
            <a:ext cx="127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cc33"/>
                </a:solidFill>
                <a:latin typeface="Comic Sans MS"/>
                <a:ea typeface="Arial"/>
              </a:rPr>
              <a:t>stanič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cc33"/>
                </a:solidFill>
                <a:latin typeface="Comic Sans MS"/>
                <a:ea typeface="Arial"/>
              </a:rPr>
              <a:t>stijen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000" y="2637000"/>
            <a:ext cx="11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cc33"/>
                </a:solidFill>
                <a:latin typeface="Comic Sans MS"/>
                <a:ea typeface="Arial"/>
              </a:rPr>
              <a:t>vaku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440" y="5734080"/>
            <a:ext cx="149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cc33"/>
                </a:solidFill>
                <a:latin typeface="Comic Sans MS"/>
                <a:ea typeface="Arial"/>
              </a:rPr>
              <a:t>kloropl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2355120"/>
            <a:ext cx="507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ŽIVOTINJSKA STAN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epravilnog oblika)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ZG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IČNA 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260280"/>
            <a:ext cx="799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TAN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840" y="105264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ICA-osnovna jedinica građe svih živih bi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557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roskopski sitne i različitih obl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početak proučavanja-otkrićem mikroskopa (17. s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933720"/>
            <a:ext cx="394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JNA STAN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avilnog obl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ZG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IČNA 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OROPLA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K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IČNA STIJE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90640" y="404640"/>
            <a:ext cx="71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ŠTO IM JE ZAJEDNIČKO, PO ČEMU SE RAZLIKUJ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3961080" cy="3436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9280" y="2133720"/>
            <a:ext cx="518472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7:04:13Z</dcterms:created>
  <dc:creator>user</dc:creator>
  <dc:description/>
  <dc:language>en-US</dc:language>
  <cp:lastModifiedBy>user</cp:lastModifiedBy>
  <dcterms:modified xsi:type="dcterms:W3CDTF">2009-11-09T15:42:36Z</dcterms:modified>
  <cp:revision>4</cp:revision>
  <dc:subject/>
  <dc:title>Slide 1</dc:title>
</cp:coreProperties>
</file>