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9154-4866-4DCC-BCFD-8203AED34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B4F2-D1A7-4232-B972-F418B7884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67B6-27EE-4EA3-9901-0D5544F7D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6F61-7B09-47C9-805B-04F6BE0A2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502B-F3C3-4BFC-9024-86AF29BFA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80A0-51C8-4C60-BDB7-27BA0317A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00F9-3BE5-4A6E-8D34-6BFB76B4F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71D2-8321-4953-A5B1-C5DA621AA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6017-6E6B-422F-BC21-705AA34E1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E5B0-9DDB-4AA4-B511-E1880B06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37DE-F6D6-435E-BB54-1ED03896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11FB-F82A-47D6-9FDF-7CA286C1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3DC4C-762B-44D2-B177-0B9E0F8F4C53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00000" y="1916280"/>
            <a:ext cx="763272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66"/>
                    </a:gs>
                    <a:gs pos="100000">
                      <a:srgbClr val="c790ab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KRETANJE ŽIVOTINJA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3366"/>
                  </a:gs>
                  <a:gs pos="100000">
                    <a:srgbClr val="c790ab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79520" y="333360"/>
            <a:ext cx="37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omic Sans MS"/>
              </a:rPr>
              <a:t>Životinje se kreću zbo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125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mic Sans MS"/>
              </a:rPr>
              <a:t>pronalaženja h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mic Sans MS"/>
              </a:rPr>
              <a:t>bijega od neprijatel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mic Sans MS"/>
              </a:rPr>
              <a:t>pronalaženja partn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9080" cy="55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9280" y="4762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808080"/>
                </a:solidFill>
                <a:latin typeface="Comic Sans MS"/>
              </a:rPr>
              <a:t>u vodi – pli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-19800" y="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omic Sans MS"/>
              </a:rPr>
              <a:t>Načini kretanja životinj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280" y="907920"/>
            <a:ext cx="878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808080"/>
                </a:solidFill>
                <a:latin typeface="Comic Sans MS"/>
              </a:rPr>
              <a:t>prilagodbe– peraje, riblji mjehur, vretenast oblik tijel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mic Sans MS"/>
              </a:rPr>
              <a:t>                     </a:t>
            </a:r>
            <a:r>
              <a:rPr b="0" lang="en-US" sz="2400" spc="-1" strike="noStrike">
                <a:solidFill>
                  <a:srgbClr val="808080"/>
                </a:solidFill>
                <a:latin typeface="Comic Sans MS"/>
              </a:rPr>
              <a:t>plivaće kož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050920" y="4941720"/>
            <a:ext cx="1008360" cy="72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43280" y="1916280"/>
            <a:ext cx="3456000" cy="2293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780000" y="4076640"/>
            <a:ext cx="3456000" cy="2260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rot="16200000">
            <a:off x="7531560" y="2771640"/>
            <a:ext cx="16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plivaće kož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63080" y="6491160"/>
            <a:ext cx="149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riblji mje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8520" y="3429000"/>
            <a:ext cx="235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vretenast oblik tij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0160" y="6308640"/>
            <a:ext cx="235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vretenast oblik tij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6200000">
            <a:off x="8136360" y="5146560"/>
            <a:ext cx="16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plivaće kož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6200000">
            <a:off x="3172680" y="2603160"/>
            <a:ext cx="8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per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516720" y="4365720"/>
            <a:ext cx="2305080" cy="2019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324000" y="4149720"/>
            <a:ext cx="3168360" cy="2357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324000" y="1844640"/>
            <a:ext cx="316836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6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7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59480" y="43344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omic Sans MS"/>
              </a:rPr>
              <a:t>Načini kretanja životinj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909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808080"/>
                </a:solidFill>
                <a:latin typeface="Comic Sans MS"/>
              </a:rPr>
              <a:t>u zraku – lete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6120" y="1341360"/>
            <a:ext cx="74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808080"/>
                </a:solidFill>
                <a:latin typeface="Comic Sans MS"/>
              </a:rPr>
              <a:t>– </a:t>
            </a:r>
            <a:r>
              <a:rPr b="0" lang="hr-HR" sz="2400" spc="-1" strike="noStrike">
                <a:solidFill>
                  <a:srgbClr val="808080"/>
                </a:solidFill>
                <a:latin typeface="Comic Sans MS"/>
              </a:rPr>
              <a:t>prilagodbe– krila, perje, šuplje i lake kosti, let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643280" y="2492280"/>
            <a:ext cx="4643640" cy="3063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02560" y="5516640"/>
            <a:ext cx="32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krila, perje, šuplje i lake k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519600" y="55897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d60093"/>
                </a:solidFill>
                <a:latin typeface="Comic Sans MS"/>
              </a:rPr>
              <a:t>let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2492280"/>
            <a:ext cx="4572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050920" y="874800"/>
            <a:ext cx="5042160" cy="4492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23560" y="333360"/>
            <a:ext cx="22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a ja lebdim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738600" y="5445000"/>
            <a:ext cx="182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leteća vjeve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195640" y="4005360"/>
            <a:ext cx="3816360" cy="25938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2765520" cy="36716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03840" y="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omic Sans MS"/>
              </a:rPr>
              <a:t>Načini kretanja životinj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2320" y="503280"/>
            <a:ext cx="70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808080"/>
                </a:solidFill>
                <a:latin typeface="Comic Sans MS"/>
              </a:rPr>
              <a:t>na tlu – trčanje, skakanje, hodanje, gmizanje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3440" y="1008000"/>
            <a:ext cx="85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808080"/>
                </a:solidFill>
                <a:latin typeface="Comic Sans MS"/>
              </a:rPr>
              <a:t>prilagodbe– noge (građene od kostiju, mišića i zglobova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6040" y="649116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d60093"/>
                </a:solidFill>
                <a:latin typeface="Comic Sans MS"/>
                <a:ea typeface="Arial"/>
              </a:rPr>
              <a:t>skok mač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9200" y="6237360"/>
            <a:ext cx="218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d60093"/>
                </a:solidFill>
                <a:latin typeface="Comic Sans MS"/>
                <a:ea typeface="Arial"/>
              </a:rPr>
              <a:t>zec i gepard u tr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6280" y="515772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gmizanje zm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5940360" y="4365720"/>
            <a:ext cx="2879640" cy="21603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628080" y="386064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d60093"/>
                </a:solidFill>
                <a:latin typeface="Comic Sans MS"/>
                <a:ea typeface="Arial"/>
              </a:rPr>
              <a:t>skok ža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28320" y="3789360"/>
            <a:ext cx="21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hodanje medvje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6443640" y="1844640"/>
            <a:ext cx="2879640" cy="19558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2843280" y="1844640"/>
            <a:ext cx="342108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60093"/>
                                </p:to>
                              </p:animCl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60093"/>
                                </p:to>
                              </p:animCl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60093"/>
                                </p:to>
                              </p:animCl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60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6009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6009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23640" y="1628280"/>
            <a:ext cx="856908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d6009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5f5f5f"/>
                </a:solidFill>
                <a:latin typeface="Comic Sans MS"/>
              </a:rPr>
              <a:t>leteća vjeverica</a:t>
            </a:r>
            <a:r>
              <a:rPr b="0" lang="hr-HR" sz="2800" spc="-1" strike="noStrike">
                <a:solidFill>
                  <a:srgbClr val="5f5f5f"/>
                </a:solidFill>
                <a:latin typeface="Comic Sans MS"/>
              </a:rPr>
              <a:t> ne leti već pri skoku na većim udaljenostima leb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d6009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5f5f5f"/>
                </a:solidFill>
                <a:latin typeface="Comic Sans MS"/>
              </a:rPr>
              <a:t>žutonogi pingvin</a:t>
            </a:r>
            <a:r>
              <a:rPr b="0" lang="hr-HR" sz="2800" spc="-1" strike="noStrike">
                <a:solidFill>
                  <a:srgbClr val="5f5f5f"/>
                </a:solidFill>
                <a:latin typeface="Comic Sans MS"/>
              </a:rPr>
              <a:t> je ptica koja najbrže pliva: do 27 km/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d6009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f5f5f"/>
                </a:solidFill>
                <a:latin typeface="Comic Sans MS"/>
              </a:rPr>
              <a:t>ptica koja najbrže leti je </a:t>
            </a:r>
            <a:r>
              <a:rPr b="0" i="1" lang="hr-HR" sz="2800" spc="-1" strike="noStrike">
                <a:solidFill>
                  <a:srgbClr val="5f5f5f"/>
                </a:solidFill>
                <a:latin typeface="Comic Sans MS"/>
              </a:rPr>
              <a:t>klinorepa čiopa</a:t>
            </a:r>
            <a:r>
              <a:rPr b="0" lang="hr-HR" sz="2800" spc="-1" strike="noStrike">
                <a:solidFill>
                  <a:srgbClr val="5f5f5f"/>
                </a:solidFill>
                <a:latin typeface="Comic Sans MS"/>
              </a:rPr>
              <a:t>. Leti brzinom do 171 km/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d6009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f5f5f"/>
                </a:solidFill>
                <a:latin typeface="Comic Sans MS"/>
              </a:rPr>
              <a:t>klokani kad se kreću brzo, skakuću. Pri tom im pomaže rep kojim održavaju ravnotež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d6009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f5f5f"/>
                </a:solidFill>
                <a:latin typeface="Comic Sans MS"/>
              </a:rPr>
              <a:t>šišmiši su jedini sisavci koji mogu letje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03640" y="549360"/>
            <a:ext cx="273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d60093"/>
                </a:solidFill>
                <a:latin typeface="Comic Sans MS"/>
                <a:ea typeface="Arial"/>
              </a:rPr>
              <a:t>ZANIMLJIV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3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3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4500"/>
                            </p:stCondLst>
                            <p:childTnLst>
                              <p:par>
                                <p:cTn id="197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3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3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2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60093"/>
                                </p:to>
                              </p:animCl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8000"/>
                            </p:stCondLst>
                            <p:childTnLst>
                              <p:par>
                                <p:cTn id="204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3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3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3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9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60093"/>
                                </p:to>
                              </p:animCl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1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3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3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3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6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60093"/>
                                </p:to>
                              </p:animCl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8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3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3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6009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6" dur="1" fill="hold"/>
                                  <p:tgtEl>
                                    <p:spTgt spid="8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6009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6T09:14:42Z</dcterms:created>
  <dc:creator>user</dc:creator>
  <dc:description/>
  <dc:language>en-US</dc:language>
  <cp:lastModifiedBy>user</cp:lastModifiedBy>
  <dcterms:modified xsi:type="dcterms:W3CDTF">2009-11-09T15:43:42Z</dcterms:modified>
  <cp:revision>2</cp:revision>
  <dc:subject/>
  <dc:title>Slide 1</dc:title>
</cp:coreProperties>
</file>