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CA9-AF64-45C5-A3FF-16D57FA1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4B8-8F08-4786-B4F8-3AFBADF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975-621D-46D8-8785-C91E26A7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833-3398-49B6-A446-F42C49C2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CDA-A0B4-44F3-97D3-B6E8793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D91-B09D-479F-AD41-38140774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794-BC2B-43F1-87E3-5E1EE74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040-462C-4833-A1FC-D466613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34C-9E8F-48D2-9AB8-CF5D44D0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A1A-B579-4D50-85D2-A636AD01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2A3-11B6-4F1F-A79C-71C4AD2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711-4D6E-4428-B425-3EA293A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E0AF-B968-44EC-87FA-6E8DE0EC2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Sjeti se svog kućnog ljubimc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Kakva je hrana koju je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Opiši kako brineš o njegovoj prehr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Daješ li mu svakodnevno svježu vodu i hra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Koju vrstu hrane jede pas ili mačka, a koju akvarijska ribica ili papi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Prisjeti se osobina živih bi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Koja je temeljna gradivna jedinica svih živih bić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34080" y="1600200"/>
            <a:ext cx="18651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75440" y="4106880"/>
            <a:ext cx="27842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probavilo 3-5 puta dulje od tijela – najrazvijeniji zubi – KOLJAČI i DERAČ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578400" cy="218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4357800" y="3573360"/>
            <a:ext cx="79200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7800" y="587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149440" y="3789360"/>
            <a:ext cx="360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9800" y="5229360"/>
            <a:ext cx="19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300720" y="357336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00720" y="4508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54280" y="55213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jekuti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760" y="4081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kutnjaci (derač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0240" y="48736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čnjaci (koljač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630600" cy="3673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8480" y="5805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v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440" y="-493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SOŽD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602160" cy="219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4932360" y="3645000"/>
            <a:ext cx="7920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5661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579640" y="3573360"/>
            <a:ext cx="360360" cy="12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4797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32360" y="3500280"/>
            <a:ext cx="144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3053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jekuti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720" y="45133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č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13720" y="42260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kut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692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robavilo 10-15 puta dulje od tijela– svi zubi podjednako razvije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4427640" cy="277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20360" y="5373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svi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480" y="13968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VEŽD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60093"/>
                </a:solidFill>
                <a:latin typeface="Comic Sans MS"/>
              </a:rPr>
              <a:t>Znate li 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08080"/>
                </a:solidFill>
                <a:latin typeface="Comic Sans MS"/>
              </a:rPr>
              <a:t>je duljina probavila mačke </a:t>
            </a:r>
            <a:r>
              <a:rPr b="0" i="1" lang="hr-HR" sz="3200" spc="-1" strike="noStrike">
                <a:solidFill>
                  <a:srgbClr val="808080"/>
                </a:solidFill>
                <a:latin typeface="Comic Sans MS"/>
              </a:rPr>
              <a:t>2,07 m</a:t>
            </a:r>
            <a:r>
              <a:rPr b="0" lang="hr-HR" sz="3200" spc="-1" strike="noStrike">
                <a:solidFill>
                  <a:srgbClr val="808080"/>
                </a:solidFill>
                <a:latin typeface="Comic Sans MS"/>
              </a:rPr>
              <a:t>; svinje </a:t>
            </a:r>
            <a:r>
              <a:rPr b="0" i="1" lang="hr-HR" sz="3200" spc="-1" strike="noStrike">
                <a:solidFill>
                  <a:srgbClr val="808080"/>
                </a:solidFill>
                <a:latin typeface="Comic Sans MS"/>
              </a:rPr>
              <a:t>23,51 m</a:t>
            </a:r>
            <a:r>
              <a:rPr b="0" lang="hr-HR" sz="3200" spc="-1" strike="noStrike">
                <a:solidFill>
                  <a:srgbClr val="808080"/>
                </a:solidFill>
                <a:latin typeface="Comic Sans MS"/>
              </a:rPr>
              <a:t>, a goveda </a:t>
            </a:r>
            <a:r>
              <a:rPr b="0" i="1" lang="hr-HR" sz="3200" spc="-1" strike="noStrike">
                <a:solidFill>
                  <a:srgbClr val="808080"/>
                </a:solidFill>
                <a:latin typeface="Comic Sans MS"/>
              </a:rPr>
              <a:t>57,06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08080"/>
                </a:solidFill>
                <a:latin typeface="Comic Sans MS"/>
              </a:rPr>
              <a:t>su slonove kljove zapravo produženi i zašiljeni sjekuti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08080"/>
                </a:solidFill>
                <a:latin typeface="Comic Sans MS"/>
              </a:rPr>
              <a:t>piton poslije obroka ne mora jesti nekoliko tje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08080"/>
                </a:solidFill>
                <a:latin typeface="Comic Sans MS"/>
              </a:rPr>
              <a:t>morskom psu zubi neprestano rastu tijekom cijelog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d60093"/>
                </a:solidFill>
                <a:latin typeface="Comic Sans MS"/>
              </a:rPr>
              <a:t>ŽIVOTINJE I NJIHOVA POTREBA ZA HRAN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981000"/>
            <a:ext cx="74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55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drži HRANJIVE TV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zmu d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IJ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ORGANIZ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ŠTITE ga od bol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1052640"/>
            <a:ext cx="2146320" cy="41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242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826400" cy="421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647800" y="1700280"/>
            <a:ext cx="5558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1700280"/>
            <a:ext cx="100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714920" y="1700280"/>
            <a:ext cx="649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170028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08720" y="21283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5080" y="2128680"/>
            <a:ext cx="172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2971800"/>
            <a:ext cx="24271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27080" y="333216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7440" y="426888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19080" y="3332160"/>
            <a:ext cx="360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23800" y="4627440"/>
            <a:ext cx="12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18360" y="9079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ždrij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141300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jedn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52840" y="14130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želu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27160" y="184464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tanko cr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53760" y="26370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debelo cr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42240" y="39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je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8360" y="4292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gušter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76360" y="2421000"/>
            <a:ext cx="216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0" y="3789360"/>
            <a:ext cx="14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4480" y="321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žlijez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slin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7720" y="475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ROBAVILO SISA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0920" y="1267920"/>
            <a:ext cx="6494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1268280"/>
            <a:ext cx="10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476360" y="981000"/>
            <a:ext cx="3589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981000"/>
            <a:ext cx="72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6444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AV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-razgradnja hrane-odvija se u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AVNOM SUSTAVU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AVNI ORGAN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usta, ždrijelo, jednjak, želudac, tanko i debelo crij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AVNE ŽLIJEZD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slinovnice, jetra i guštera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61689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a mogli bismo probavilo usporediti i s čudnovatim stro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87640" y="1600200"/>
            <a:ext cx="316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usitnjavaju hranu (sjekutići, očnjaci, pretkutnjaci, kutnj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424720" cy="2176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3640" y="5775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9720" y="537228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 </a:t>
            </a: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sjekutići        očnjaci       pretkunjaci     kut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U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589560" cy="218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00480" y="345744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03760" y="3457440"/>
            <a:ext cx="360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64120" y="52578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40480" y="3314880"/>
            <a:ext cx="432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72480" y="45385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0480" y="59785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68600" y="56228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jekuti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520" y="49021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krezu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34400" y="4202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kut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LJOŽDER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4284720" cy="299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25800" y="609300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gov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6200" y="60930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zubalo biljoždera-PREŽIV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00" y="191628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EZUBINA-preživači(goveda, ovce, koze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765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robavilo 30 puta dulje od tijela – najrazvijeniji zubi – SJEKUTIĆI(kod glodavaca-glodnjaci) i KUTNJ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211640" cy="2565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195640" y="2203560"/>
            <a:ext cx="50472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64000" y="2924280"/>
            <a:ext cx="216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42195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68360" y="2563920"/>
            <a:ext cx="142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5719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5640" y="2924280"/>
            <a:ext cx="100800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06520" y="47480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glod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1960" y="3865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krezu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219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73920" y="323676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kutnj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18240" y="5877000"/>
            <a:ext cx="32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zubalo biljoždera-GLODAV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1:07Z</dcterms:created>
  <dc:creator>user</dc:creator>
  <dc:description/>
  <dc:language>en-US</dc:language>
  <cp:lastModifiedBy>user</cp:lastModifiedBy>
  <dcterms:modified xsi:type="dcterms:W3CDTF">2009-11-09T15:44:27Z</dcterms:modified>
  <cp:revision>4</cp:revision>
  <dc:subject/>
  <dc:title>Slide 1</dc:title>
</cp:coreProperties>
</file>