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182-1153-48BF-9A1C-A4372704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504-8DAD-47D4-84CE-D970414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4CB-5ACB-43BB-BA2E-B665AAEC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979-B6D9-41F4-8AF0-FF962CA8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401-86E5-4106-B4B9-173D071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ED4-897C-46F8-A6A7-FFDDF1F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064-6261-42B4-B739-37A8F8DB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E0C-56CB-45DD-BBAC-26925C2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76A-FEF2-4C91-A439-F857E30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6BC-0872-407F-9004-D2A8CDD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564-7F30-431F-A429-7495B3C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5A7-68E5-45E2-8007-C664C14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2582-0F7C-4CC8-8EB5-B325FAE045E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5120" y="40464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RODA I PRIRODNE Z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3359160" cy="2487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2463840" cy="292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3654360" cy="2332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58920" y="1268280"/>
            <a:ext cx="3085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350208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PRIRODA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– sve što nas okruž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Ž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ve ostalo; voda, tlo, zrak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96352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2987640" cy="198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2440" y="465300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ŽIV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judi, biljke, životi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195640" y="386064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2920" y="3860640"/>
            <a:ext cx="23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68360" y="39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SNOVNE OSOBINE ŽIVIH BIĆ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ran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š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zmnožavaju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đaju se, stare i ugib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259080" cy="2152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927160" cy="216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00360" y="0"/>
            <a:ext cx="385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08560" y="3841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81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RODNE ZNANOST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roučavaju prirod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50680" y="3500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ristali s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7040" y="1916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kro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47160" y="61657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kretanje Saturna oko Su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8720" y="1162080"/>
            <a:ext cx="55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biologija (grč. bios – život, logos – znanost, riječ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                –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roučava sva živa bi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920" y="270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mija(proučava tv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2640" y="494172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zika(proučava zakonitosti prir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2663640" cy="178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120672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320508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8440" y="18900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.znanstvenica u prirodi prikuplja podat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00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3680" y="189000"/>
            <a:ext cx="31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..znanstvenik u laborator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89616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0:14:28Z</dcterms:created>
  <dc:creator>user</dc:creator>
  <dc:description/>
  <dc:language>en-US</dc:language>
  <cp:lastModifiedBy>user</cp:lastModifiedBy>
  <dcterms:modified xsi:type="dcterms:W3CDTF">2009-11-09T15:41:04Z</dcterms:modified>
  <cp:revision>3</cp:revision>
  <dc:subject/>
  <dc:title>Slide 1</dc:title>
</cp:coreProperties>
</file>