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7C-17EF-4C37-AC43-12E7D6FD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DD8-CD81-4833-B84C-CDFACCA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C92-D7E2-4E2A-84A9-08BD48F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435-3D49-4F42-95D7-E84BF34B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644-F9CC-4DE3-A536-0A7D573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80C-2722-4599-9BE2-C5384EF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615-B988-4137-BFAE-6527923D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451-5CD7-4C5F-A52E-14A35919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A4-9707-4F8E-B68B-F22B178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CC5-D4DC-49BF-ACFB-381A5B5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104-5397-4EE9-8E74-1EF9E24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B1B-A0A1-4CA1-8E17-7BFE76B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70B-4BC8-4375-9C43-58B17A6E6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?RAZMNOŽAVAN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9520" y="1600200"/>
            <a:ext cx="219240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08640" y="1747800"/>
            <a:ext cx="2517840" cy="188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zrečica: “Na mladima svijet ostaj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ašto je razmnožavanje važna osobina živih bić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33"/>
                </a:solidFill>
                <a:latin typeface="Comic Sans MS"/>
              </a:rPr>
              <a:t>POTRKUŠCI</a:t>
            </a: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 = mladi koji su vrlo brzo nakon što se izvale samosta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neki mladi izvale se bez perja i slijepi, ovisni o roditeljima = </a:t>
            </a:r>
            <a:r>
              <a:rPr b="0" lang="hr-HR" sz="2800" spc="-1" strike="noStrike">
                <a:solidFill>
                  <a:srgbClr val="990033"/>
                </a:solidFill>
                <a:latin typeface="Comic Sans MS"/>
              </a:rPr>
              <a:t>ČUČ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briga za potomstvo već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33"/>
                </a:solidFill>
                <a:latin typeface="Comic Sans MS"/>
              </a:rPr>
              <a:t>Razmnožavanje sisa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35280" y="907920"/>
            <a:ext cx="526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oplodnja unutar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mužjak spolnim udom unese spermije u tijelo žen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jajna stanica i spermij spajaju se u jajovo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zametak/plod razvija se u </a:t>
            </a:r>
            <a:r>
              <a:rPr b="0" lang="hr-HR" sz="2600" spc="-1" strike="noStrike">
                <a:solidFill>
                  <a:srgbClr val="990033"/>
                </a:solidFill>
                <a:latin typeface="Comic Sans MS"/>
              </a:rPr>
              <a:t>matern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u maternici je plod zaštićen, hranu i kisik prima od maj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kad dođu na svijet mladi sišu majčino mlijeko- proizvod mliječnih žlijezda svih sisava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6680" y="3859920"/>
            <a:ext cx="81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NJS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ribe)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UTRAŠNJ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ptice, sisav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040" y="4077720"/>
            <a:ext cx="8396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ZVOJ ZAMETKA: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 vodi                            u jajetu       u mater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1636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84720" y="4221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53440" y="422100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155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kod životinja koje stvaraju veliki broj potomaka nem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IGE ZA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OMSTV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3051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0880" y="32130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opl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životinje ugibaju od starosti ili postaju žrtve grabežlji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da bi održale svoju vrstu, stvaraju nove jedinke koje će nadomjestiti s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proces kojim životinje stvaraju sebi slične potomke naziva se </a:t>
            </a:r>
            <a:r>
              <a:rPr b="0" lang="hr-HR" sz="2800" spc="-1" strike="noStrike">
                <a:solidFill>
                  <a:srgbClr val="990033"/>
                </a:solidFill>
                <a:latin typeface="Comic Sans MS"/>
              </a:rPr>
              <a:t>RAZMNOŽ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907920"/>
            <a:ext cx="612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RAZMNOŽAVANJE 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ŽIVOTINJA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290840"/>
            <a:ext cx="90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tvaranje potomstva radi opstanka vr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37372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L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2 roditelja, oplod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SPOL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1 roditelj, diobe sta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208320" cy="331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61280" y="33624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JAJNA ST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581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Ženske spolne stanice 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JNE STAN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astaju u ženskim spolnim žlijezdama 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J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48000" y="549360"/>
            <a:ext cx="2005200" cy="33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00720" y="312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15440" y="2927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bi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97440" y="45828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1800" y="1904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glava” s jezg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7520" y="38606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SPERM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ške spolne stanice 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RMIJ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astaju u muškim spolnim žlijezdama 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JEMENI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1636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656160" cy="42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59640" y="2205000"/>
            <a:ext cx="21600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4520" y="2781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zame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7240" y="30686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opl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765000"/>
            <a:ext cx="215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0880" y="12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perm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4520" y="19890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ja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t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724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LODNJ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spajanje muške i ženske spolne stanice         oplođena jajna stanica il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ZAMETA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49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819680" cy="6597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87640" y="1700280"/>
            <a:ext cx="165564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068640"/>
            <a:ext cx="1871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4437000"/>
            <a:ext cx="1440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6021360"/>
            <a:ext cx="2232000" cy="8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69000"/>
            <a:ext cx="21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24200" y="281160"/>
            <a:ext cx="549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990033"/>
                </a:solidFill>
                <a:latin typeface="Comic Sans MS"/>
                <a:ea typeface="Arial"/>
              </a:rPr>
              <a:t>Razmnožavanje riba (mriješte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00" y="1386000"/>
            <a:ext cx="4427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ženka u vodu ispušta </a:t>
            </a:r>
            <a:r>
              <a:rPr b="0" lang="hr-HR" sz="2400" spc="-1" strike="noStrike">
                <a:solidFill>
                  <a:srgbClr val="990033"/>
                </a:solidFill>
                <a:latin typeface="Comic Sans MS"/>
              </a:rPr>
              <a:t>ikru</a:t>
            </a: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 = riblja jaja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mužjak ispuša </a:t>
            </a:r>
            <a:r>
              <a:rPr b="0" lang="hr-HR" sz="2400" spc="-1" strike="noStrike">
                <a:solidFill>
                  <a:srgbClr val="990033"/>
                </a:solidFill>
                <a:latin typeface="Comic Sans MS"/>
              </a:rPr>
              <a:t>mliječ</a:t>
            </a: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 sa spermi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spermiji plivaju kroz vodu do jajne stanice i spajaju se = </a:t>
            </a:r>
            <a:r>
              <a:rPr b="0" lang="hr-HR" sz="2400" spc="-1" strike="noStrike">
                <a:solidFill>
                  <a:srgbClr val="990033"/>
                </a:solidFill>
                <a:latin typeface="Comic Sans MS"/>
              </a:rPr>
              <a:t>VANJSKA OPLO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iz oplođene jajne stanice razvija se zametak, a iz njega mlade 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nema brige za potomke; potomstvo broj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33"/>
                </a:solidFill>
                <a:latin typeface="Comic Sans MS"/>
              </a:rPr>
              <a:t>Razmnožavanje p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oplodnja se događa u tijelu ženke = </a:t>
            </a:r>
            <a:r>
              <a:rPr b="0" lang="hr-HR" sz="2600" spc="-1" strike="noStrike">
                <a:solidFill>
                  <a:srgbClr val="990033"/>
                </a:solidFill>
                <a:latin typeface="Comic Sans MS"/>
              </a:rPr>
              <a:t>UNUTARNJA OPLOD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tijekom parenja, mužjak unese spermije kroz stražnji tjelesni otvor žen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spermiji jajovodom putuju do jajne stan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oplođena jajna stanica se dijeli i nastaje zamet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08080"/>
                </a:solidFill>
                <a:latin typeface="Comic Sans MS"/>
              </a:rPr>
              <a:t>zametak prolazi kroz jajovod i obavija se s 3 ovojnice: žumance, bjelance i vapnena lju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nakon što ptica snese jaje, leži na njemu i grije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kroz nekoliko dana (tjedana) zametak se razvije u ptića koji vrhom kljuna probije ljusku i izvali se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35600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7600" y="616572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valjenje pil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42:55Z</dcterms:created>
  <dc:creator>user</dc:creator>
  <dc:description/>
  <dc:language>en-US</dc:language>
  <cp:lastModifiedBy>user</cp:lastModifiedBy>
  <dcterms:modified xsi:type="dcterms:W3CDTF">2009-11-09T17:25:19Z</dcterms:modified>
  <cp:revision>5</cp:revision>
  <dc:subject/>
  <dc:title>Slide 1</dc:title>
</cp:coreProperties>
</file>