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521-03F6-416B-8315-944AECDD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9F5-75CD-4F93-9FB1-20BB81BF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DBF-6608-4D62-BD32-4F2FBC7E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097-721C-4845-A8F9-253CAF4A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2DE-191B-4AF8-B9DF-1CDB06CC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509-4C62-41DF-B1C9-01554643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25B-39D2-4090-8030-FEF54162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A79-B43C-4CE6-93FF-83968F6C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710-7116-4145-B209-A9CC9055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CDA-4C47-4FC1-872C-207953D3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DF8-B562-49CB-8C5E-3F3DFBEE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BDC-D70D-48D7-B2AD-A0DDD3A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21A1-AF2F-4D37-9200-B031A2C5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1413000"/>
            <a:ext cx="5905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KAKO DEVE</a:t>
            </a:r>
            <a:endParaRPr b="0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MOGU HODATI </a:t>
            </a:r>
            <a:endParaRPr b="0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PO PIJESKU </a:t>
            </a:r>
            <a:endParaRPr b="0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BEZ PROPADANJA?</a:t>
            </a:r>
            <a:endParaRPr b="0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7160" y="260280"/>
            <a:ext cx="34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ITANJE DAN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3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1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550800"/>
            <a:ext cx="777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razložen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 imaju veliko stopalo, što im omogućuje da se njihova težina ravnomjerno rasporedi po većoj površini. Zbog toga deve mogu nositi težak teret i ne tonuti u pijesak za razliku od kamiona koji će pri pokušaju vožnje u pijesak propasti. Po istom se načelu i u gore navedenom pokusu težina pritiska olovke rasporedila po većem kartonskom krugu koji nije, za razliku od malog kartona, potonuo u pijes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9,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3:14:31Z</dcterms:created>
  <dc:creator>user</dc:creator>
  <dc:description/>
  <dc:language>en-US</dc:language>
  <cp:lastModifiedBy>user</cp:lastModifiedBy>
  <dcterms:modified xsi:type="dcterms:W3CDTF">2009-11-09T15:44:06Z</dcterms:modified>
  <cp:revision>2</cp:revision>
  <dc:subject/>
  <dc:title>Slide 1</dc:title>
</cp:coreProperties>
</file>