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8EF-B115-4DDF-B50B-2BBC0FC4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41A-2093-4FED-A506-6448F6D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B20-CBEA-4A72-BDCF-0C56EC33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D5D-51C2-4D69-88E8-266CB92C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7AB-C2DB-43D6-9F18-A5D3E770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A8F-B0C2-4954-9BA1-ED06495B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F42-BCDB-4E44-8478-3B17899B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ED2-1E30-45B5-9713-946FA716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AA2-4459-425E-A471-CD86E648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9AE-913F-49A8-9BA8-91BE490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01F-C625-4AE1-B7A0-8C02723A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E9A-284B-4A7A-B23E-4F7139D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1BD-2CE7-444C-8320-4E8D5552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356000" y="980640"/>
            <a:ext cx="45468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većina životinja u vodi dišu </a:t>
            </a:r>
            <a:r>
              <a:rPr b="0" lang="hr-HR" sz="2800" spc="-1" strike="noStrike">
                <a:solidFill>
                  <a:srgbClr val="993366"/>
                </a:solidFill>
                <a:latin typeface="Comic Sans MS"/>
              </a:rPr>
              <a:t>škrgama</a:t>
            </a: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 (npr. ribe rakovi, školjkaši, puževi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kopnene životinje dišu </a:t>
            </a:r>
            <a:r>
              <a:rPr b="0" lang="hr-HR" sz="2800" spc="-1" strike="noStrike">
                <a:solidFill>
                  <a:srgbClr val="993366"/>
                </a:solidFill>
                <a:latin typeface="Comic Sans MS"/>
              </a:rPr>
              <a:t>pluć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3960720" cy="2581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560" y="2492280"/>
            <a:ext cx="6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816360" cy="266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240" y="595008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isav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jednostanični organizmi kisik primaju preko </a:t>
            </a:r>
            <a:r>
              <a:rPr b="0" lang="hr-HR" sz="2800" spc="-1" strike="noStrike">
                <a:solidFill>
                  <a:srgbClr val="993366"/>
                </a:solidFill>
                <a:latin typeface="Comic Sans MS"/>
              </a:rPr>
              <a:t>staničn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102800">
            <a:off x="826560" y="2707920"/>
            <a:ext cx="2322720" cy="360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1812960"/>
            <a:ext cx="3456000" cy="23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3419280" cy="2351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280" y="63104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puč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5120" y="191772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m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40200" y="443700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na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Comic Sans MS"/>
              </a:rPr>
              <a:t>žabe, daždevnjaci, gujavice kisik primaju preko </a:t>
            </a:r>
            <a:r>
              <a:rPr b="0" lang="hr-HR" sz="2800" spc="-1" strike="noStrike">
                <a:solidFill>
                  <a:srgbClr val="993366"/>
                </a:solidFill>
                <a:latin typeface="Comic Sans MS"/>
              </a:rPr>
              <a:t>ko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038840" cy="284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8160" y="35002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zelena ž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83760" y="501336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gujav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IS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an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izmjena plinova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ISI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GLJIKOVOG DIOKS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 za disanje su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UĆ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u vodi šk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362040" cy="218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0560" y="60213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plu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90280" y="59500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šk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608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28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68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68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68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881440" cy="518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26200" y="2565360"/>
            <a:ext cx="3601800" cy="234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2916360" y="62028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62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26760" y="2142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  <a:ea typeface="Arial"/>
              </a:rPr>
              <a:t>nosna šuplj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1701720"/>
            <a:ext cx="216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48360" y="2277720"/>
            <a:ext cx="1224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278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19880" y="18702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  <a:ea typeface="Arial"/>
              </a:rPr>
              <a:t>duš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148360" y="328572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995640" y="3286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560" y="2925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  <a:ea typeface="Arial"/>
              </a:rPr>
              <a:t>duš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2781360"/>
            <a:ext cx="2664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79640" y="436572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6480" y="395928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  <a:ea typeface="Arial"/>
              </a:rPr>
              <a:t>plu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6000" y="2494080"/>
            <a:ext cx="151272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228280"/>
            <a:ext cx="93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zrak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sna šupljina    ždrijelo    dušnik    dušnice   pluća (plućni mjehurić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087640" y="5742000"/>
            <a:ext cx="226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319640" y="5742000"/>
            <a:ext cx="226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00720" y="5742000"/>
            <a:ext cx="226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40000" y="5742000"/>
            <a:ext cx="22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1341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46320" y="9810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8080"/>
                </a:solidFill>
                <a:latin typeface="Comic Sans MS"/>
              </a:rPr>
              <a:t>ždrij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5360" y="4219920"/>
            <a:ext cx="876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ućni mjehurići- kisik ulazi u krv      stanice(razgradnja hranjivih tvari u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moć kisika-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slobađa se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ENERGIJA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te nastaju štetne tvari i ugljikov dioks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4067280" y="62064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62064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15600" y="1890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Comic Sans MS"/>
                <a:ea typeface="Arial"/>
              </a:rPr>
              <a:t>plućni mjehuri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11640" y="4436640"/>
            <a:ext cx="341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7676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312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5588640"/>
            <a:ext cx="21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zlučuju 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rezi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mokrać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92760" y="5516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rvlju se vraća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ućnih mjehurić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 ga izdiš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43:26Z</dcterms:created>
  <dc:creator>user</dc:creator>
  <dc:description/>
  <dc:language>en-US</dc:language>
  <cp:lastModifiedBy>user</cp:lastModifiedBy>
  <dcterms:modified xsi:type="dcterms:W3CDTF">2009-11-10T21:09:31Z</dcterms:modified>
  <cp:revision>5</cp:revision>
  <dc:subject/>
  <dc:title>Slide 1</dc:title>
</cp:coreProperties>
</file>