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05A9-F01C-4497-9792-F9102FB28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9137-17A7-4B94-B1FA-2D611864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0F61-47AE-486E-85C1-CA96147AC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605E-387B-474A-9223-A9D575F5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EFD7-4450-4A02-BC45-9C81CB8C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34C0-9C35-4F13-BA93-94A890F8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E7EE-54ED-4593-821A-36F64FB1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6314-821C-4D89-89DB-3DD35065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4AF0-8C78-48CE-AD23-6FFB22B6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C49D-F06C-4844-9D55-6F7ADAA6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CAAB-BD8F-4C97-BC94-11CE6205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6471-D8AE-4675-A355-E91AE985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F4DA-B260-41EE-8848-C7543919F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4360" y="1628640"/>
            <a:ext cx="784836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GRAĐA I ULOGE</a:t>
            </a:r>
            <a:endParaRPr b="0" lang="en-US" sz="1800" spc="1" strike="noStrike">
              <a:ln w="0">
                <a:noFill/>
              </a:ln>
              <a:solidFill>
                <a:srgbClr val="cc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cc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ŽIVOTINJSKOG ORGANIZMA</a:t>
            </a:r>
            <a:endParaRPr b="0" lang="en-US" sz="1800" spc="1" strike="noStrike">
              <a:ln w="0">
                <a:noFill/>
              </a:ln>
              <a:solidFill>
                <a:srgbClr val="cc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2340000" cy="2198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067280" y="1844640"/>
            <a:ext cx="2220840" cy="1874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670800" y="1125360"/>
            <a:ext cx="2473200" cy="1855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979640" y="3645000"/>
            <a:ext cx="2521080" cy="2179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50920" y="4653000"/>
            <a:ext cx="2517840" cy="1944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5076720" y="4005360"/>
            <a:ext cx="3780000" cy="2457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694600" y="14842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cc3399"/>
                </a:solidFill>
                <a:latin typeface="Comic Sans MS"/>
                <a:ea typeface="Arial"/>
              </a:rPr>
              <a:t>rako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451640" y="2852640"/>
            <a:ext cx="107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cc3399"/>
                </a:solidFill>
                <a:latin typeface="Comic Sans MS"/>
                <a:ea typeface="Arial"/>
              </a:rPr>
              <a:t>vlasul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12800" y="3645000"/>
            <a:ext cx="116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cc3399"/>
                </a:solidFill>
                <a:latin typeface="Comic Sans MS"/>
                <a:ea typeface="Arial"/>
              </a:rPr>
              <a:t>guja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92160" y="148428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cc3399"/>
                </a:solidFill>
                <a:latin typeface="Comic Sans MS"/>
                <a:ea typeface="Arial"/>
              </a:rPr>
              <a:t>lepti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6360" y="422100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cc3399"/>
                </a:solidFill>
                <a:latin typeface="Comic Sans MS"/>
                <a:ea typeface="Arial"/>
              </a:rPr>
              <a:t>svi kuk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1680" y="165240"/>
            <a:ext cx="239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EZKRALJEŽNJA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2880" y="620640"/>
            <a:ext cx="690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maju kralježnicu (npr. kukci, rakovi, vlasulja, gujav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5280" y="3789360"/>
            <a:ext cx="3276720" cy="2179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5280" y="1415880"/>
            <a:ext cx="3313080" cy="2159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780000" y="3789360"/>
            <a:ext cx="1908000" cy="2874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796000" y="4437000"/>
            <a:ext cx="3168720" cy="2210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76640" y="3141720"/>
            <a:ext cx="65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ri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63960" y="1557360"/>
            <a:ext cx="14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vodozem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46920" y="38606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gmazo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42640" y="616572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p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52520" y="6165720"/>
            <a:ext cx="95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sisav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11592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KRALJEŽNJA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4762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aju kralježni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5920" y="907920"/>
            <a:ext cx="595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kupine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ibe, vodozemci, gmazovi, ptice i sisav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403280" y="2565360"/>
            <a:ext cx="6842160" cy="3692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26920" y="1917720"/>
            <a:ext cx="2087640" cy="21607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84360" y="2781360"/>
            <a:ext cx="3888000" cy="21603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79640" y="4799160"/>
            <a:ext cx="5113440" cy="17269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18900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ijel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kralježnjaka izgrađeno je o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6206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lav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mozak, osjeti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1052640"/>
            <a:ext cx="66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up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kralježnica, unutrašnji orga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5000" y="1484280"/>
            <a:ext cx="608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dova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– služe za pokretanje (peraje, noge, kri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c3399"/>
                </a:solidFill>
                <a:latin typeface="Comic Sans MS"/>
              </a:rPr>
              <a:t>Unutarnja građa tijela kralježnj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47640" y="2205000"/>
            <a:ext cx="6732720" cy="36338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H="1" flipV="1">
            <a:off x="1835280" y="1773000"/>
            <a:ext cx="57600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68000" y="177336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492360" y="2060640"/>
            <a:ext cx="57492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67280" y="206064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364000" y="2133720"/>
            <a:ext cx="72072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84720" y="213372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40360" y="3716280"/>
            <a:ext cx="50328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4364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932360" y="3645000"/>
            <a:ext cx="50328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6597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995280" y="3860640"/>
            <a:ext cx="57636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95640" y="5877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410920" y="3860640"/>
            <a:ext cx="1584360" cy="25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11280" y="6381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684000" y="3933720"/>
            <a:ext cx="259236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616572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2840" y="1413000"/>
            <a:ext cx="97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808080"/>
                </a:solidFill>
                <a:latin typeface="Comic Sans MS"/>
                <a:ea typeface="Arial"/>
              </a:rPr>
              <a:t>moz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64040" y="1701720"/>
            <a:ext cx="144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808080"/>
                </a:solidFill>
                <a:latin typeface="Comic Sans MS"/>
                <a:ea typeface="Arial"/>
              </a:rPr>
              <a:t>kraljež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42960" y="177336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808080"/>
                </a:solidFill>
                <a:latin typeface="Comic Sans MS"/>
                <a:ea typeface="Arial"/>
              </a:rPr>
              <a:t>bubr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68480" y="5661000"/>
            <a:ext cx="95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808080"/>
                </a:solidFill>
                <a:latin typeface="Comic Sans MS"/>
                <a:ea typeface="Arial"/>
              </a:rPr>
              <a:t>crij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96120" y="621828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808080"/>
                </a:solidFill>
                <a:latin typeface="Comic Sans MS"/>
                <a:ea typeface="Arial"/>
              </a:rPr>
              <a:t>želud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74920" y="551664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808080"/>
                </a:solidFill>
                <a:latin typeface="Comic Sans MS"/>
                <a:ea typeface="Arial"/>
              </a:rPr>
              <a:t>je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40960" y="6021360"/>
            <a:ext cx="67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808080"/>
                </a:solidFill>
                <a:latin typeface="Comic Sans MS"/>
                <a:ea typeface="Arial"/>
              </a:rPr>
              <a:t>s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48600" y="578628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808080"/>
                </a:solidFill>
                <a:latin typeface="Comic Sans MS"/>
                <a:ea typeface="Arial"/>
              </a:rPr>
              <a:t>pluć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457440" y="619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331308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564000" y="2852640"/>
            <a:ext cx="1908000" cy="2874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651640" y="4149720"/>
            <a:ext cx="3168360" cy="2209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03840" y="260280"/>
            <a:ext cx="20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KROV TIJE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94840" y="37893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Comic Sans MS"/>
              </a:rPr>
              <a:t>ljus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52600" y="580536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Comic Sans MS"/>
              </a:rPr>
              <a:t>per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39360" y="649116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Comic Sans MS"/>
              </a:rPr>
              <a:t>dl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61120" y="260280"/>
            <a:ext cx="51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KOŽA + IZRASLIN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ljuske, perje, dlaka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14:11:38Z</dcterms:created>
  <dc:creator>user</dc:creator>
  <dc:description/>
  <dc:language>en-US</dc:language>
  <cp:lastModifiedBy>user</cp:lastModifiedBy>
  <dcterms:modified xsi:type="dcterms:W3CDTF">2009-11-09T15:43:18Z</dcterms:modified>
  <cp:revision>3</cp:revision>
  <dc:subject/>
  <dc:title>Slide 1</dc:title>
</cp:coreProperties>
</file>