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2D2-94F7-4E62-80A4-913B64DC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CB4-DB12-4BEE-AF4E-EE869B5B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E32-155D-4DA4-B5E2-B8A58519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C97-7680-405F-9F56-F2886CEA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C84-45D8-492F-B08E-AD5F6950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172-1800-442D-8BC3-7FA65741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A19-D398-44B9-AADA-DDCF1A57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612-94A5-4D9F-9B34-0F9216CA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8B6-D368-4B78-B8DA-8FF64653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689-5610-43CB-BCF3-6DADAB23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47B-D49B-4994-A334-B7ABE3F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D9A-000B-4BAE-BE7E-41AD5AF0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02FB-AD18-4404-9062-8B04F877D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24440" y="41436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POZNAVANJE PRIR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673520" cy="3504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4400" y="5515920"/>
            <a:ext cx="73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prirodu spoznajemo svojim osjetilima (vid, miris, okus, sluh, opi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040" y="465444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lim ok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22400" y="451008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vjetlosn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kroskop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8240" y="458136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ktronsk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kroskop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3040" y="47628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ko vidimo bakteri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0908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7320" y="33336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ko vidimo kuhinjsku s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42400" y="48690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lim ok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22400" y="486900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vjetlosn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kroskop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79880" y="486900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ktronsk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kroskop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1440" y="2133720"/>
            <a:ext cx="91454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0120" y="214200"/>
            <a:ext cx="65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vratimo se našem svjetlosnom mikrosko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38671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42160" y="189000"/>
            <a:ext cx="56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JELOVI SVJETLOSNOG MIKROSK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1197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2349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79640" y="2637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79640" y="3429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4000" y="3933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4581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5589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616572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32920" y="105264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K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48040" y="2133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U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36800" y="2276640"/>
            <a:ext cx="86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L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J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05560" y="3141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J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91000" y="37162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K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94320" y="4365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OL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20440" y="537372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RC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47520" y="60213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TO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27280" y="1052640"/>
            <a:ext cx="3429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7720" y="26028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a može imati izvor svjetlosti umjesto zr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7808600">
            <a:off x="3275640" y="4220280"/>
            <a:ext cx="576000" cy="115272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56000" y="907920"/>
            <a:ext cx="38671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82120" y="1341360"/>
            <a:ext cx="352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matrati možemo pomoć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GOLOG O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DALEKOZ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VEĆALA (LU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KROSKOPA (SITNOZO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" y="764280"/>
            <a:ext cx="73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prirodu spoznajemo svojim osjetilima (vid, miris, okus, sluh, opi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95720" y="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POZNAVANJE PRIR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733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MIKROSKOP– optička naprava kojom sitne predmete možemo vidj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tisuću i više puta uvećane (Robert Hooke u 17. s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6320" y="306864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JELOVI SVJETLOSNOG MIKROSK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2814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7160" y="333360"/>
            <a:ext cx="38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ibor za mikroskop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5436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0280" y="260280"/>
            <a:ext cx="57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premanje mikroskopskog prepa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00360" y="765000"/>
            <a:ext cx="346716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69160" y="4292640"/>
            <a:ext cx="794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MIKROSKOPSKI PREPA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osebno pripremljen uzorak ili predmet za promatranje mikroskop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(predmetno stakalce, pokrovno stakalce, tanak i proziran objek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redmet koji mikroskopiramo mora biti proziran i tan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67160" y="335772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kroskopski prepa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88944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3880" y="18900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lim okom promatram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012920" cy="3009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27640" y="1052640"/>
            <a:ext cx="4314600" cy="286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124000" y="3990960"/>
            <a:ext cx="43401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260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ako želimo promatrati pticu koja je savila gnijezdo na stablu u našoj ulici koristit ćem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27840" y="134136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_ _ _ K _ Z _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63120" y="1341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41040" y="134136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3660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31960" y="134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81040" y="134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482436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2200" y="0"/>
            <a:ext cx="83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PRAŠNIKE MOŽEMO IZBROJATI POMOĆU POMAGALA KOJE SE ZOV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80760" y="141300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_ V _ _ _ L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3960" y="141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0788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3840" y="1413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87120" y="1413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52680" y="141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40000" y="2374920"/>
            <a:ext cx="42861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Ameba"/>
          <p:cNvPicPr/>
          <p:nvPr/>
        </p:nvPicPr>
        <p:blipFill>
          <a:blip r:embed="rId1"/>
          <a:stretch/>
        </p:blipFill>
        <p:spPr>
          <a:xfrm>
            <a:off x="1116000" y="2852640"/>
            <a:ext cx="3887640" cy="262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189000"/>
            <a:ext cx="85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ŽIVA BIĆA U KAPLJICI BARSKE VODE MOŽEMO PROMATRATI SPRAVOM KOJA SE ZOVE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520" y="148428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_ K _ _ S _ _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52760" y="1484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8880" y="1484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5960" y="1484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1484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81040" y="1484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219640" y="2565360"/>
            <a:ext cx="291456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330720" y="595008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vjetlosni mikrosk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3429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82120" y="1341360"/>
            <a:ext cx="352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matrati možemo pomoć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GOLOG O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DALEKOZ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VEĆALA (LU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KROSKOPA (SITNOZO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480" y="764280"/>
            <a:ext cx="73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prirodu spoznajemo svojim osjetilima (vid, miris, okus, sluh, opi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95720" y="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POZNAVANJE PRIR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32440" y="551664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mikroskop R. Hook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8520" y="333360"/>
            <a:ext cx="62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nije mikroskop uvijek izgledao kao d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36904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6720" y="117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ktronski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73416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3:47:00Z</dcterms:created>
  <dc:creator>user</dc:creator>
  <dc:description/>
  <dc:language>en-US</dc:language>
  <cp:lastModifiedBy>user</cp:lastModifiedBy>
  <dcterms:modified xsi:type="dcterms:W3CDTF">2009-11-09T15:41:41Z</dcterms:modified>
  <cp:revision>3</cp:revision>
  <dc:subject/>
  <dc:title>Slide 1</dc:title>
</cp:coreProperties>
</file>