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5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DD8-A372-4330-A394-B8406ED1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6FA-B2E5-4CB6-84E8-AA6C812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BC2-5934-495B-8C85-61482EC0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DD9-5709-4588-A092-7A30A344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D7B-26B2-4382-8DD5-08082FC8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7EB-2440-410D-A350-0D0063C7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B6A-D011-4C31-94D0-F3C70833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B0A-5559-41FB-8272-8D587F35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690-0810-481D-8CEA-CF25AD10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B45-9242-46A0-96A0-28706BD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106-7BDF-49BC-8DBE-2A31920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0DE-E058-42B9-B6B0-7DDDE684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9833-7BF8-424C-879B-52ABB7433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12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2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živa bića naseljavaju različite dijelove Zemlje: vodu, zrak i kop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486080"/>
            <a:ext cx="2736720" cy="1782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08760" y="2781360"/>
            <a:ext cx="313524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1647720" cy="2187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627280" y="3284640"/>
            <a:ext cx="3230640" cy="326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155736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8785080" cy="247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2880" y="62064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-višestaničnim organizmima omogućuje 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66240" y="479736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dioba višestaničnog organi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20" y="1173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DIOBA ST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2319120" cy="374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24000" y="2205000"/>
            <a:ext cx="1882800" cy="32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765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-jednostaničnim organizmima omogućuje RAZMNOŽ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97120" y="566100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dioba jednostaničnog organi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6400" y="26208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DIOBA ST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2852640"/>
            <a:ext cx="5040360" cy="18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živa bića razlikuju se: oblikom, građom i veličinom tij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2089080" cy="1571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43640" y="3645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334960" cy="157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95640" y="494172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076720" y="1700280"/>
            <a:ext cx="243864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979640" y="4700520"/>
            <a:ext cx="1438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zajednička obilježja svih živih bića: rađanje, hranjenje, rast, disanje, kretanje, razmnožavanje, ugib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577880"/>
            <a:ext cx="3960720" cy="274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2220840"/>
            <a:ext cx="1728720" cy="1625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00000" y="4411800"/>
            <a:ext cx="165600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58000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843280" y="465300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5508720" cy="5616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64000" y="3645000"/>
            <a:ext cx="3600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</a:rPr>
              <a:t>još jedno zajedničko obilježje- sva živa bića izgrađena su od </a:t>
            </a:r>
            <a:r>
              <a:rPr b="0" lang="hr-HR" sz="2400" spc="-1" strike="noStrike">
                <a:solidFill>
                  <a:srgbClr val="cc0066"/>
                </a:solidFill>
                <a:latin typeface="Comic Sans MS"/>
              </a:rPr>
              <a:t>ST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2664000" cy="2003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4103640" cy="264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Comic Sans MS"/>
              </a:rPr>
              <a:t>JEDNOSTANIČNI I MNOGOSTANIČNI ORGANIZ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56360" y="1989000"/>
            <a:ext cx="2809800" cy="178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913360" y="3589200"/>
            <a:ext cx="3230640" cy="326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492360" y="2924280"/>
            <a:ext cx="2521080" cy="1704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68360" y="2924280"/>
            <a:ext cx="287964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348000" y="472428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0" y="4788000"/>
            <a:ext cx="31320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36600" y="5516640"/>
            <a:ext cx="15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  <a:ea typeface="Arial"/>
              </a:rPr>
              <a:t>  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  <a:ea typeface="Arial"/>
              </a:rPr>
              <a:t>kišna a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84640" y="4221000"/>
            <a:ext cx="177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0066"/>
                </a:solidFill>
                <a:latin typeface="Comic Sans MS"/>
                <a:ea typeface="Arial"/>
              </a:rPr>
              <a:t>        </a:t>
            </a:r>
            <a:r>
              <a:rPr b="0" lang="hr-HR" sz="2000" spc="-1" strike="noStrike">
                <a:solidFill>
                  <a:srgbClr val="cc0066"/>
                </a:solidFill>
                <a:latin typeface="Comic Sans MS"/>
                <a:ea typeface="Arial"/>
              </a:rPr>
              <a:t>papuč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04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JEDNOSTANIČNI ORGANIZ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2808360" cy="1900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34920" y="544500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0066"/>
                </a:solidFill>
                <a:latin typeface="Comic Sans MS"/>
                <a:ea typeface="Arial"/>
              </a:rPr>
              <a:t>am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-građeni od samo jedne stanice koja obavlja sve životne funkcije (AMEBA, PAPUČICA, KIŠNA ALGA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735280" cy="187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156360" y="3500280"/>
            <a:ext cx="259236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2592360" cy="20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516720" y="3716280"/>
            <a:ext cx="2411280" cy="2187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987640" y="3589200"/>
            <a:ext cx="3230640" cy="326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87280" y="1268280"/>
            <a:ext cx="281016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6080" y="11736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MNOGOSTANIČNI ORGANIZ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0960" y="54936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-građeni od velikog broja st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19495200">
            <a:off x="250560" y="1341360"/>
            <a:ext cx="3564000" cy="3384720"/>
          </a:xfrm>
          <a:custGeom>
            <a:avLst/>
            <a:gdLst>
              <a:gd name="textAreaLeft" fmla="*/ 477360 w 3564000"/>
              <a:gd name="textAreaRight" fmla="*/ 3086640 w 3564000"/>
              <a:gd name="textAreaTop" fmla="*/ 634680 h 3384720"/>
              <a:gd name="textAreaBottom" fmla="*/ 224100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4" stAng="-5400000" swAng="-5400000"/>
                <a:lnTo>
                  <a:pt x="0" y="10250"/>
                </a:lnTo>
                <a:arcTo wR="21600" hR="8104" stAng="10800000" swAng="-2801910"/>
                <a:lnTo>
                  <a:pt x="14400" y="21137"/>
                </a:lnTo>
                <a:lnTo>
                  <a:pt x="21600" y="17280"/>
                </a:lnTo>
                <a:lnTo>
                  <a:pt x="14400" y="12497"/>
                </a:lnTo>
                <a:lnTo>
                  <a:pt x="14400" y="15744"/>
                </a:lnTo>
                <a:arcTo wR="21600" hR="8104" stAng="7998090" swAng="2629764"/>
                <a:lnTo>
                  <a:pt x="190" y="9177"/>
                </a:lnTo>
                <a:arcTo wR="21600" hR="8104" stAng="-10627854" swAng="5227854"/>
                <a:close/>
              </a:path>
              <a:path fill="darkenLess" w="21600" h="21600">
                <a:moveTo>
                  <a:pt x="21600" y="0"/>
                </a:moveTo>
                <a:arcTo wR="21600" hR="8104" stAng="-5400000" swAng="-5400000"/>
                <a:lnTo>
                  <a:pt x="0" y="8104"/>
                </a:lnTo>
                <a:arcTo wR="21600" hR="8104" stAng="10800000" swAng="-172146"/>
                <a:lnTo>
                  <a:pt x="190" y="9177"/>
                </a:lnTo>
                <a:arcTo wR="21600" hR="8104" stAng="-10627854" swAng="52278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94172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-stanice s istom funkcijom udružuju se u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TKIVA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(živčano, mišićno...), tkiva s istom funkcijom tvore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ORGANE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(srce, mozak, oko...) koji se povezuju u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SUSTAVE ORGANA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(živčani, probavni...), a svi oni čine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ORGANIZAM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 (npr. ruža, čovj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48360" y="549360"/>
            <a:ext cx="3851280" cy="3452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95640" y="187200"/>
            <a:ext cx="447480" cy="113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916200" cy="14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476360" y="2349360"/>
            <a:ext cx="1162080" cy="2527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898560" y="1023840"/>
            <a:ext cx="495360" cy="113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987640" y="260280"/>
            <a:ext cx="13827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6400" y="26208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DIOBA ST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280" y="83664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-dijeljenje st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0320" y="54450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dioba st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3439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8:51:46Z</dcterms:created>
  <dc:creator>user</dc:creator>
  <dc:description/>
  <dc:language>en-US</dc:language>
  <cp:lastModifiedBy>user</cp:lastModifiedBy>
  <dcterms:modified xsi:type="dcterms:W3CDTF">2009-11-09T15:42:07Z</dcterms:modified>
  <cp:revision>5</cp:revision>
  <dc:subject/>
  <dc:title>Slide 1</dc:title>
</cp:coreProperties>
</file>